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EE4-8EE1-42E6-BE7C-27CBB7CB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97C-758E-42A5-8D93-2CC9BDB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B50-CA34-44FD-B6F3-E04E5866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D47-C804-474A-B768-DEFEB7F5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50FD-56CA-47DF-90F8-38EAEC5C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17A-3981-47E1-A446-D9013D0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C272-E67C-4892-86EA-3B32C29C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CAAE-D568-4158-89E1-2BB4A3ED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C91D-736E-4E49-949D-8E357E58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E35-0672-4516-AB78-B514C6FB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8BF5-FF3A-4581-A5BD-96C20E1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403-6046-4CDE-90E3-1B736F59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1D2-96E9-4A6F-9009-5408A140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AD01-784B-4370-A629-26BCC296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1A22-7456-4119-960A-51A7F015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B1F2-FC30-4851-9EBB-ABC584FF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999E-FB51-4B93-9C9E-30653BA3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F745C-ADE2-4DE5-AC8B-7A8715A3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56CE-CECB-458A-B247-EFAB141D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CEE3-C49D-4B80-B785-D440C0EB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917FA-78C0-45F7-9AE9-43B8F36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3726-1671-417D-AAB0-7995BDF8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46C-8E8A-4E5A-B2FA-B3CF1AA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09CC-8F87-4B36-A1E7-03BA1A1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6DB1-61AB-4A01-B4EF-650AAAC8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CD022-085D-48C9-9938-1CAB37BC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0E77-C7F4-4F0D-996A-9E2781B9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A1A04-54AC-4000-9BCD-77FF6216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7E38E-FA67-4481-886D-C7E99C45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0369-D226-436F-AFF5-A305D275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43DCD-0565-42A1-AC66-7F89391A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7FB77-46BF-4977-99CE-B4FA74D5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0123-F92E-40AC-A3A4-E8FC2473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C35-1BD2-4367-B9AD-F3E835FB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D1E8B-77CE-41E7-AE29-B8C6071B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68EB-1647-4C51-AC19-19151B3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274A5-B350-4724-98CC-FCF96CC6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56B5-6786-4179-948E-51A193F2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318CE-BBDE-4ECC-9C1A-877E0B91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FECA9-7BF7-4346-97F6-0E1DC57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3691-EC8C-482D-AD32-1AD49B7F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0628-2F84-4075-A3A8-D393D998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7116-8CE7-45C4-9A99-9408EF9B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CD263-3223-44B6-BDE1-01DDF36F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8C7-3D71-4DEA-BFA7-909C302A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69A79-0C43-4652-ACB0-8048FA31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02D6-7993-4826-8382-1F4B21A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9EEE1-50D8-4047-963D-A4E310AE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41AF6-1CF0-4162-9E43-E0DE87A1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7405-F84F-4BE5-8539-B1FB1030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BF9C5-E12E-497F-A82E-EAE8492C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042E1-9BC5-4AF1-82AB-191D60D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F8639-5D98-4527-9D29-A386B21B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B7B6A-7DE0-4B01-9EE5-06E80B27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8E80F-3A8D-4599-AC20-9D581D2E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51B-C571-4D47-A888-BEC96D1C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63958-E50D-4BCD-A64F-A4FA7DCD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3B3-6D0E-4FDD-BF83-8289ADF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A71-BB7F-45B6-A964-C91D1C37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2B3-EF4F-4FDF-9580-6576E79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DAC1-A193-4D82-B919-EC65A6DA5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9909-6B07-478D-843D-32D73A0B3AB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053-176C-4CC9-91B9-56A65C050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2" name="Freeform 9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3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6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7D31-7B68-4BB3-B7CB-AA5167CDED1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CD32-179A-43C0-B283-2937D6679A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lanningyourdreams.org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48480" cy="20113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2960" y="3139920"/>
            <a:ext cx="7642080" cy="167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Reports Due: 11/11/11 (FRI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be working on three career assess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ree assessment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UDER Career Search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UDER Skills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KUDER Work Values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ade Requir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de Requirements: (150 poin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t out the results (one page results summary) for the three KUDER Assessments (50 points per repor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DER Registration In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 will all need to register as a new student on the websi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planningyourdreams.org/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DER N Activation Co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 Code: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3334858GCJ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assword: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wildca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timeline_photo_1985.PNG"/>
          <p:cNvPicPr/>
          <p:nvPr/>
        </p:nvPicPr>
        <p:blipFill>
          <a:blip r:embed="rId1"/>
          <a:stretch/>
        </p:blipFill>
        <p:spPr>
          <a:xfrm>
            <a:off x="7621560" y="1219320"/>
            <a:ext cx="1495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6:33:57Z</dcterms:created>
  <dc:creator>default</dc:creator>
  <dc:description/>
  <dc:language>en-US</dc:language>
  <cp:lastModifiedBy>SysAdmin</cp:lastModifiedBy>
  <dcterms:modified xsi:type="dcterms:W3CDTF">2011-11-08T15:14:06Z</dcterms:modified>
  <cp:revision>55</cp:revision>
  <dc:subject/>
  <dc:title>KUDER Career Assessments</dc:title>
</cp:coreProperties>
</file>